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78C2-E0E6-426A-A098-C8CADF1226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265D-AACD-40A7-9CF0-FAAFF99421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5EE3-DDB3-45DA-9452-7211FFB3D1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4927-6089-4F25-AC81-C9C122AD90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2FE0-4964-475A-8868-585728151C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F2DE-007D-44CF-A36C-271672A12B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86E2-F366-4BB6-B537-C285AAA1F6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53B5-8FBD-4262-8341-FA5E51AB06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8174-9B64-4AE7-A372-9BC6619CCC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D94A-4EB7-4EBE-88E1-FB1D2B6F5C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D8A6-67EA-4438-91CA-323A0C15A1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8D35-75ED-4D0E-9809-2721B7ABAE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4005-D268-4C34-AC86-EF696585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FEB9-BF0B-4873-9834-08F5C6D2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71F1-6742-4DA3-92D9-73CC478A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F11D-863C-494D-83A8-EBB5DD68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BE5E-E399-4E1D-AB14-822B959D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80FD-064F-4DAF-9D4F-B39E07B8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B95-4BA2-425E-9818-B9EB5119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E4C0-F990-4E34-9AB3-41BDCBBF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0499-7098-4CC9-940E-BA234E03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E580-38E6-4668-A814-DC527C80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5057-07C8-41E4-9FF5-2FFD0AAE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70A9-C60D-42E7-9253-BFAEC8C5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3285-76BC-45A6-A391-6486AFCE2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81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4360" y="6093000"/>
            <a:ext cx="6400800" cy="62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neptune"/>
          <p:cNvPicPr/>
          <p:nvPr/>
        </p:nvPicPr>
        <p:blipFill>
          <a:blip r:embed="rId1"/>
          <a:stretch/>
        </p:blipFill>
        <p:spPr>
          <a:xfrm>
            <a:off x="2540160" y="1868400"/>
            <a:ext cx="40636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Pluto"/>
          <p:cNvPicPr/>
          <p:nvPr/>
        </p:nvPicPr>
        <p:blipFill>
          <a:blip r:embed="rId1"/>
          <a:stretch/>
        </p:blipFill>
        <p:spPr>
          <a:xfrm>
            <a:off x="2556000" y="1413000"/>
            <a:ext cx="402732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sun_skylab"/>
          <p:cNvPicPr/>
          <p:nvPr/>
        </p:nvPicPr>
        <p:blipFill>
          <a:blip r:embed="rId1"/>
          <a:stretch/>
        </p:blipFill>
        <p:spPr>
          <a:xfrm>
            <a:off x="1763640" y="1268280"/>
            <a:ext cx="55152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mercury2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venus"/>
          <p:cNvPicPr/>
          <p:nvPr/>
        </p:nvPicPr>
        <p:blipFill>
          <a:blip r:embed="rId1"/>
          <a:stretch/>
        </p:blipFill>
        <p:spPr>
          <a:xfrm>
            <a:off x="2340000" y="1197000"/>
            <a:ext cx="438156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earth"/>
          <p:cNvPicPr/>
          <p:nvPr/>
        </p:nvPicPr>
        <p:blipFill>
          <a:blip r:embed="rId1"/>
          <a:stretch/>
        </p:blipFill>
        <p:spPr>
          <a:xfrm>
            <a:off x="2330280" y="1600200"/>
            <a:ext cx="4483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mars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jupiteR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saturn"/>
          <p:cNvPicPr/>
          <p:nvPr/>
        </p:nvPicPr>
        <p:blipFill>
          <a:blip r:embed="rId1"/>
          <a:stretch/>
        </p:blipFill>
        <p:spPr>
          <a:xfrm>
            <a:off x="1654200" y="1600200"/>
            <a:ext cx="5834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uranus"/>
          <p:cNvPicPr/>
          <p:nvPr/>
        </p:nvPicPr>
        <p:blipFill>
          <a:blip r:embed="rId1"/>
          <a:stretch/>
        </p:blipFill>
        <p:spPr>
          <a:xfrm>
            <a:off x="2556000" y="1413000"/>
            <a:ext cx="419868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8:06:35Z</dcterms:created>
  <dc:creator>GB</dc:creator>
  <dc:description/>
  <dc:language>en-US</dc:language>
  <cp:lastModifiedBy>RomaK</cp:lastModifiedBy>
  <dcterms:modified xsi:type="dcterms:W3CDTF">2015-07-31T22:51:08Z</dcterms:modified>
  <cp:revision>5</cp:revision>
  <dc:subject/>
  <dc:title>OUR SOLAR SYSTEM</dc:title>
</cp:coreProperties>
</file>